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DDBA-8E02-42AB-BEA8-1DA62AB8B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6ECC-982A-4615-B06F-4061233B6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0856-6F3D-4BF4-A6EC-7BD65BE66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9E4F-C1DA-41D7-B125-B28BAF8D7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66FA-0C4C-472B-9C47-890027AD8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6DE6-B707-4BA5-87A4-9F184DC8C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AB83-3FE2-4BED-B0C6-C13737DA2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56BA-545B-43D9-9300-51FDF4C96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4E0B-16FF-41F1-9B53-33A8C90BC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6B71-BE7B-4EF9-9F95-B208F93A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FA6D-DB4C-4267-BD48-30892E13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8AEC-3811-42F7-992E-40A7824A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54289-769C-4341-9D2E-C4DE4ECE1C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1371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ghal In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762120" y="9907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nielle Despain, C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Map of India"/>
          <p:cNvPicPr/>
          <p:nvPr/>
        </p:nvPicPr>
        <p:blipFill>
          <a:blip r:embed="rId1"/>
          <a:stretch/>
        </p:blipFill>
        <p:spPr>
          <a:xfrm>
            <a:off x="304920" y="2054160"/>
            <a:ext cx="3657600" cy="4422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http://www.sscnet.ucla.edu/southasia/History/map.gif"/>
          <p:cNvPicPr/>
          <p:nvPr/>
        </p:nvPicPr>
        <p:blipFill>
          <a:blip r:embed="rId2"/>
          <a:stretch/>
        </p:blipFill>
        <p:spPr>
          <a:xfrm>
            <a:off x="5067360" y="0"/>
            <a:ext cx="4076640" cy="646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027" descr="http://www.islamicart.com/images/space.gif"/>
          <p:cNvPicPr/>
          <p:nvPr/>
        </p:nvPicPr>
        <p:blipFill>
          <a:blip r:embed="rId1"/>
          <a:stretch/>
        </p:blipFill>
        <p:spPr>
          <a:xfrm>
            <a:off x="0" y="0"/>
            <a:ext cx="9360" cy="1904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Mughal Family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28240" y="1447920"/>
            <a:ext cx="3962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Babu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Hindal Mirza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lrukh Begu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mran Mir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ari Mir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7030a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030a0"/>
                </a:solidFill>
                <a:latin typeface="Arial"/>
              </a:rPr>
              <a:t>Humay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00"/>
              </a:spcBef>
              <a:buClr>
                <a:srgbClr val="7030a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030a0"/>
                </a:solidFill>
                <a:latin typeface="Arial"/>
              </a:rPr>
              <a:t>Akb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b0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f0"/>
                </a:solidFill>
                <a:latin typeface="Arial"/>
              </a:rPr>
              <a:t>Akb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 Hak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hanzada Khan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h Mura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nyal Shakarunnis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um A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nu Beg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b0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f0"/>
                </a:solidFill>
                <a:latin typeface="Arial"/>
              </a:rPr>
              <a:t>Jahang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b0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f0"/>
                </a:solidFill>
                <a:latin typeface="Arial"/>
              </a:rPr>
              <a:t>Jahang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tan Nisar Begu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hurasw Parv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har BanuBegu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hrayar Jahand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Arial"/>
              </a:rPr>
              <a:t>Shahjah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Content Placeholder 40"/>
          <p:cNvSpPr/>
          <p:nvPr/>
        </p:nvSpPr>
        <p:spPr>
          <a:xfrm>
            <a:off x="3886200" y="1371600"/>
            <a:ext cx="3352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Arial"/>
              </a:rPr>
              <a:t>Shahjaha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ra Shikoh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h Shuja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ahanara Begum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wshanara Begu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rad Bakhs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Arial"/>
              </a:rPr>
              <a:t> </a:t>
            </a:r>
            <a:r>
              <a:rPr b="1" lang="en-US" sz="1200" spc="-1" strike="noStrike">
                <a:solidFill>
                  <a:srgbClr val="00b050"/>
                </a:solidFill>
                <a:latin typeface="Arial"/>
              </a:rPr>
              <a:t>Aurangzib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65" descr="The Emperor Jahangir"/>
          <p:cNvPicPr/>
          <p:nvPr/>
        </p:nvPicPr>
        <p:blipFill>
          <a:blip r:embed="rId2"/>
          <a:stretch/>
        </p:blipFill>
        <p:spPr>
          <a:xfrm>
            <a:off x="7238880" y="1219320"/>
            <a:ext cx="1400400" cy="2222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67" descr="The Emperor Shah Jahan"/>
          <p:cNvPicPr/>
          <p:nvPr/>
        </p:nvPicPr>
        <p:blipFill>
          <a:blip r:embed="rId3"/>
          <a:stretch/>
        </p:blipFill>
        <p:spPr>
          <a:xfrm>
            <a:off x="2971800" y="3200400"/>
            <a:ext cx="1600200" cy="2233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69" descr="The Emperor Aurangzib"/>
          <p:cNvPicPr/>
          <p:nvPr/>
        </p:nvPicPr>
        <p:blipFill>
          <a:blip r:embed="rId4"/>
          <a:stretch/>
        </p:blipFill>
        <p:spPr>
          <a:xfrm>
            <a:off x="5410080" y="3809880"/>
            <a:ext cx="238140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lim where at the top of the social ladder (Mr. Dill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ign of Babur, 1526-15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urks were patrons of the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</a:rPr>
              <a:t>arts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and educa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often were poets in Persian or Chaghatai Turkish; amateur painters or calligraphers; and singers or instrumentalists(Khalid Mubireek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der Aurangzeb the Mughal empire reached its greatest extent, yet the emperor's puritanical outlook and his costly wars meant that the generous support given by his predecessors to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</a:rPr>
              <a:t>learning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and the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</a:rPr>
              <a:t>arts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was almost completely withdrawn(Khalid Mubireek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The Mughal forces capturing the Deccan"/>
          <p:cNvPicPr/>
          <p:nvPr/>
        </p:nvPicPr>
        <p:blipFill>
          <a:blip r:embed="rId1"/>
          <a:stretch/>
        </p:blipFill>
        <p:spPr>
          <a:xfrm>
            <a:off x="6553080" y="1905120"/>
            <a:ext cx="23814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638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 was at the heart of the Islamic Empire (Khalid Mubireek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ughals provided the setting for a brilliant court and a vigorous cultural life (Khalid Mubireek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ughals lived in India from 1526 to 1858 AD (Khalid Mubireek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sty was the wealthiest, and longest-lasting Muslim dynasty to rule India (Khalid Mubireek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lished by able Muslim rulers who came from the present day Uzbekista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ign of Humayun, 1530-155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bur's eldest son and successor, Humayun, was 22 years old when his father passed away (Khalid Mubireek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Golden Age"/>
          <p:cNvPicPr/>
          <p:nvPr/>
        </p:nvPicPr>
        <p:blipFill>
          <a:blip r:embed="rId1"/>
          <a:stretch/>
        </p:blipFill>
        <p:spPr>
          <a:xfrm>
            <a:off x="6477120" y="1600200"/>
            <a:ext cx="238104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igi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kbar’s efforts to unify his people resulted in a tolerant religious polic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kbar had an inquisitive mind, and he turned to the ulama, established a religious assembly hall to hold discussions about Isla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much consideration Akbar began to believe that no single region including Islam ,held all the answ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Fatehpur Sikri"/>
          <p:cNvPicPr/>
          <p:nvPr/>
        </p:nvPicPr>
        <p:blipFill>
          <a:blip r:embed="rId1"/>
          <a:stretch/>
        </p:blipFill>
        <p:spPr>
          <a:xfrm>
            <a:off x="5715000" y="1295280"/>
            <a:ext cx="3220920" cy="186876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7"/>
          <p:cNvSpPr/>
          <p:nvPr/>
        </p:nvSpPr>
        <p:spPr>
          <a:xfrm>
            <a:off x="30240" y="-1576440"/>
            <a:ext cx="3981240" cy="32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0240" y="-1576440"/>
            <a:ext cx="3981240" cy="32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llect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of new was of doing th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of making things be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e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 as: painting sculptures ect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The Emperor Akbar"/>
          <p:cNvPicPr/>
          <p:nvPr/>
        </p:nvPicPr>
        <p:blipFill>
          <a:blip r:embed="rId1"/>
          <a:stretch/>
        </p:blipFill>
        <p:spPr>
          <a:xfrm>
            <a:off x="5867280" y="2057400"/>
            <a:ext cx="304956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olog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53341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way of building with different type of hand to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ns and way of fighting batt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an trade clot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learn and write knowledge bet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way of creating paint to make it brigh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Qutb Minar"/>
          <p:cNvPicPr/>
          <p:nvPr/>
        </p:nvPicPr>
        <p:blipFill>
          <a:blip r:embed="rId1"/>
          <a:stretch/>
        </p:blipFill>
        <p:spPr>
          <a:xfrm>
            <a:off x="5867280" y="1905120"/>
            <a:ext cx="2592360" cy="36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Aurangzeb rule art and learning were on the way side and no new learning or new art work was cre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Babur rule there was much learning and art work being created or discover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ing of art and knowledge was one of may form of trade during this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Eurpoean envoys"/>
          <p:cNvPicPr/>
          <p:nvPr/>
        </p:nvPicPr>
        <p:blipFill>
          <a:blip r:embed="rId1"/>
          <a:stretch/>
        </p:blipFill>
        <p:spPr>
          <a:xfrm>
            <a:off x="3124080" y="3657600"/>
            <a:ext cx="4800600" cy="28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ph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Islamic architectur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 Khalid Mubireek, 1995. Web. &lt;http://www.islamicart.com/library/empires/india/&gt;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The Mughal Empir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 History politics. Web. 29 Sept. 09. &lt;http://www.sscnet.ucla.edu/southasia/History/Mughals/mughals.html&gt;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Religon ethnics in islam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 BBC. Web. 29 Sept. 09. &lt;http://www.bbc.co.uk/religion/religions/islam/history/mughalempire_1.shtml&gt;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http://www.iloveindia.com/history/medieval-india/mughal-empire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http://www.islamicart.com/library/empires/india/mughal_lin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rn Asian text book page 3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20:34:30Z</dcterms:created>
  <dc:creator>Douglas County School District Re-1</dc:creator>
  <dc:description/>
  <dc:language>en-US</dc:language>
  <cp:lastModifiedBy>Douglas County School District RE-1</cp:lastModifiedBy>
  <dcterms:modified xsi:type="dcterms:W3CDTF">2009-10-06T20:47:00Z</dcterms:modified>
  <cp:revision>28</cp:revision>
  <dc:subject/>
  <dc:title>Mughal India</dc:title>
</cp:coreProperties>
</file>